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4123-E58A-4C57-B295-89F0660E7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26B4-CDC3-4CAE-8766-17891327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F659-791E-4285-859E-C7C9F5287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1FC9-EFDB-4EE6-A387-FD5F171FF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8451-941F-43D3-8EFF-CC6C0224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06E9-790A-46F6-9621-47BCC00B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3AEE-CCF8-4B82-8B08-02DE1D86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9933-5B2A-418A-B043-55BEC578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00D5-77E4-4CA4-AA1D-7EC16C5F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9AFF-D515-4592-BF83-D21FC05F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BD2C-BCDD-4ECF-806E-576FD704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90B1-E7AF-4AF0-B5DF-29FBE839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1461-FD36-4553-A2A7-8298918A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CBB3-9811-4D33-8BB8-BD2F5E1B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AEC7-85E5-44B9-B819-9EF7F711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0EFF-E6BF-4DD9-BA08-90CBE0B5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7353-C9DF-49B7-A7F1-C84575234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F49C-D3C6-4A6D-B359-0F397F83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54C1-3C6B-437C-822B-C677F700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388A-D3B1-4E55-B34C-EB5D6ABB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7B2F-5246-42AB-B588-0A32CF9B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FEB7-1029-4FCD-82A3-D7E636B5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A324-8FA2-4E00-A5F3-378BF3AF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F8BE-0661-4F0B-9BA4-0CDBBAB2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B304-02C2-486B-8261-19A601CD4DC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E941-588F-4F6F-8228-394B1173C11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forklift.ru/img/kat/katalog100128pp.jpg&amp;imgrefurl=http://www.forklift.ru/%3Fpage%3Dcat%26top%3D100042&amp;h=200&amp;w=200&amp;sz=44&amp;hl=ru&amp;start=17&amp;tbnid=p04Ufsq4ubPDGM:&amp;tbnh=104&amp;tbnw=104&amp;prev=/images%3Fq%3D%25D0%25A1%25D0%25B2%25D0%25B8%25D0%25BD%25D1%2586%25D0%25BE%25D0%25B2%25D1%258B%25D0%25B5%2B%25D0%25B0%25D0%25BA%25D0%25BA%25D1%2583%25D0%25BC%25D1%2583%25D0%25BB%25D1%258F%25D1%2582%25D0%25BE%25D1%2580%25D1%258B%2B%26svnum%3D10%26hl%3Dru%26lr%3D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ru/imgres?imgurl=http://bast.ru/bastion/help/risunki/jurris.gif&amp;imgrefurl=http://bast.ru/bastion/help/stat_juravlev_akb.htm&amp;h=179&amp;w=250&amp;sz=22&amp;hl=ru&amp;start=20&amp;tbnid=zEAGC-Y-xJfrwM:&amp;tbnh=79&amp;tbnw=111&amp;prev=/images%3Fq%3D%25D0%25A1%25D0%25B2%25D0%25B8%25D0%25BD%25D1%2586%25D0%25BE%25D0%25B2%25D1%258B%25D0%25B5%2B%25D0%25B0%25D0%25BA%25D0%25BA%25D1%2583%25D0%25BC%25D1%2583%25D0%25BB%25D1%258F%25D1%2582%25D0%25BE%25D1%2580%25D1%258B%2B%26svnum%3D10%26hl%3Dru%26lr%3D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98984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Бытовые отходы.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Мусор-проблема век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519280" y="2349360"/>
            <a:ext cx="662472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копление твердых бытовых отходов в современном городе достигает 250-300 кг на человека в год, а ежегодное увеличение отходов на душу населения составляет 4-6%, что в 3 раза превышает скорость роста насел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1873080" cy="18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России разработана технология по механизированному извлечению из твердых бытовых отходов шести компонентов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ерных металлов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ловосодержащего лома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люмин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акулатуры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лимерной пленк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ищевых отход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 энер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середины 70-х годов ХХв. в разгар мирового энергетического кризиса на твердые бытовые отходы стали смотреть как на дополнительный сырьевой источник энергии - тепло отходящих газов, образующихся при сжигании мусора, можно утилизировать: пять тонн мусора равны тонне условного топлив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26920" y="4797360"/>
            <a:ext cx="2592720" cy="433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87280" y="3716280"/>
            <a:ext cx="2521080" cy="43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87280" y="2924280"/>
            <a:ext cx="2160720" cy="433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истема раздельного сбора мус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9360">
            <a:solidFill>
              <a:srgbClr val="b8b7d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Германии батареи мусорных бочек у домов выкрашены в три цвета: серые, желтые, зелены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серу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у несут старые газеты, журналы и картонные короб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желту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у выбрасывают банки, бутылки полимерную и бумажную, а также частично металлическую упаковк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Зелена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а предназначена для биоразлагаемых отходов пищевого происхождения, которые позже будут переработаны в компост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 для самопровер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следствия мусорного загрязнения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лассификация бытовых отходов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блемы удаления и переработки бытового мусора в современных городах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кологическое исследование: «Не слишком ли много мы используем упаковок?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кологические акции: «Чистый подъезд», «Ель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95280" y="1412640"/>
            <a:ext cx="514836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валки существенно влияют на все компоненты окружающей природной среды и являются мощным загрязнителем атмосферного воздуха, почвы и грунтовых вод .Эти свалки являются, кроме того, еще рассадниками мышей, крыс, насекомых и могут стать источником инфекционных заболеваний, особенно в южных районах стран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456000" cy="25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75640" cy="5783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708360" y="2779560"/>
            <a:ext cx="5168880" cy="3461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50920" y="549360"/>
            <a:ext cx="582588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xit" presetID="4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6400" y="1341360"/>
            <a:ext cx="87692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собенно опасным является ртутное загрязнен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настоящее время в стране ежегодно идет в отходы около 200 млн. штук люминесцентных и дугоразрядных ламп. В каждой лампе содержится от 80 до 120 мг ртут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3433680" cy="2575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0920" y="3284640"/>
            <a:ext cx="5473440" cy="26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е меньшую опасность представляют ртутьсодержащие электрические батарейки. В электрических батарейках содержание ртути достигает 300 мг. В целом по нашей стране попадают на свалки десятки тонн рту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винцовые аккумуляторы для автомобилей – в среднем в каждом аккумуляторе содержится от 8,5 до 9,5 кг свинц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933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3860640"/>
            <a:ext cx="2303640" cy="1640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6732720" y="3933720"/>
            <a:ext cx="1679400" cy="16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пидемиологическая опас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ак, например, в Ленинградской области на свалке были выявлены зараженные бешенством лисицы, что привело к необходимости проведения дорогостоящих профилактических мероприят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се твердые отходы городов заражены разнообразными насекомыми и гельминт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мире зарегистрировано уже заражение детей СПИДом, связанное с игрой последних с медицинскими отходами, попавшими в бытовые контейнер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ксикологическая 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вердые бытовые отходы в городах содержат значительное количество разнообразных токсичных веществ и материалов. Примерно 4% отходов являются токсичны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 наименований токсичных соединений и среди них - красители, пестициды, ртуть и ее соединения, растворители, свинец и его соли, лекарства, кадмий, мышьяковистые соединения, формальдегид, соли таллия и д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ксикологическая 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собое место среди твердых отходов занимают пластмассы и синтетические материалы, так как они не подвергаются процессам биологического разрушения и могут длительное время (десятки лет) находиться в объектах окружающей среды. При горении пластмасс и синтетических материалов выделяются многочисленные токсические яд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роблемы удаления и переработки бытового мусора в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современных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городах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7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ервое "мусоросжигательное заведение" было построено еще в 1870 году близ Лондон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ейчас в мире действуют более 1000 мусоросжигательных завод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нашей стране первый мусоросжигательный завод был построен только в 1972 году, то есть через 102 года после появления в мире первог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6:49:11Z</dcterms:created>
  <dc:creator>09</dc:creator>
  <dc:description/>
  <dc:language>en-US</dc:language>
  <cp:lastModifiedBy>admin</cp:lastModifiedBy>
  <dcterms:modified xsi:type="dcterms:W3CDTF">2007-01-21T19:45:50Z</dcterms:modified>
  <cp:revision>12</cp:revision>
  <dc:subject/>
  <dc:title>Бытовые отходы. Мусор-проблема века. </dc:title>
</cp:coreProperties>
</file>